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CA3-984F-4396-818D-A69E8960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FAE-FDFA-47F8-AA78-93804669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6E8-125A-43BD-A1F7-8B110E1A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236-D992-45BE-B8E4-7B43F646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65C-50E8-41F9-91BF-E2865CD6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3B6-2757-42E7-A778-447B9ED2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8D9-F8DE-4615-83EB-5CA53754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7EA-0F59-462F-B8E2-D370277D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6E8-8B6B-41C8-AF74-F27F8485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558-B9EC-447D-8B45-92641C9F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593-2A6E-4E09-8138-E47BFD91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7D2-4C69-4DAE-8CF4-4E344FD6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08FE-F406-492D-8B9F-62EA058B83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apter 1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ing Feature St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a feature stor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hter, more hu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have some news va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written in inverted pyramid 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imelin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stories are evergr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s features are time sensi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nd needing unif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eative Sty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re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 general journalistic conven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spice up stories some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try to write funny if you can’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imited Possibil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st and various story opportun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the Argus and you will find many fe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sonality Profi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ing in-depth about an individ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goc Thach – Profile of Dr. Lora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 profiles in each iss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to find an ang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humanity in the individ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write a profi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ally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sorts of features would fit well in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night Scrol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20:41:25Z</dcterms:created>
  <dc:creator>jvanengen</dc:creator>
  <dc:description/>
  <dc:language>en-US</dc:language>
  <cp:lastModifiedBy>Administrator</cp:lastModifiedBy>
  <dcterms:modified xsi:type="dcterms:W3CDTF">2010-10-25T19:03:22Z</dcterms:modified>
  <cp:revision>5</cp:revision>
  <dc:subject/>
  <dc:title>Chapter 11</dc:title>
</cp:coreProperties>
</file>